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8780-7BBB-4DC6-9C75-E7C513897E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27E1-97AD-4617-9354-9D3A2BB45CC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EDC1-AD7C-4FBB-8C72-E2DC6111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4B2-B598-4085-8528-6BF68FBE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2DB0-9C8B-45EA-ACCD-1AE081B99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36D4-0BBE-4013-8DD5-2B039081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D91F6-AB4B-4BD4-9DDA-A3FEB923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CB873-7C10-4B20-A8F0-F3ED501B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4313A6-869A-4FA8-9C73-DA15387E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B4FAC-B3E4-4F1E-848C-CAAC17F1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2AD32C-A860-41CB-99F3-677A0DD80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10B2A-A3A6-4068-B017-65CF4C52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7486E-D524-40CA-8B54-2C65FD5B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40AE-D8D4-43B4-A490-C818B40C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0FC52-D135-41EA-B0E9-2ED85FD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0CACF-A8EB-4312-83C5-46E634B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0F5A7-AE1B-41F7-8AF9-7ED94D8D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62DF3-9E3C-42CF-B0DB-6F1654ED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4730F-A910-45E1-AF4B-7DB2C31F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28D22A-ED50-44A5-9F18-0059A1242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5FCA72-F3D0-4244-933E-3A847814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D0CD1-F107-4BBC-9F99-B5383B37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595FD-F8D5-4B43-B962-C8C8D713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8AF7F-2192-4D38-8A94-1C1DD35A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DC7-5381-4125-A469-D0715924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8F1D47-7933-4B53-9F23-934FFEF7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18E79-0829-42ED-9145-EADDB7A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C6EAF2-3811-4019-B60C-BBFF7CE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FF1AE-237F-4162-BFC1-E92E5D52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D1D69-EE0B-4F56-A92A-FBDE803B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683A0-EC29-49A0-9C26-93941BEE7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87EAB-B0A6-4943-AAC0-5555829F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F056-D1C5-4553-BFAA-839671B60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26AD-48D5-4423-BC00-43961A7A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9EB59-9B46-48FD-A700-EA7CE71B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D1C-E3A8-4492-9FB5-0513BD2B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1DC8-69A4-4895-9AD0-CBC382AE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03662-B5AB-4002-9523-C1C3BBAB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AA9ED-25DF-41EB-9FEB-1BDD594B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A1DAC-A60C-48B4-BB9B-11A49BFC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806C-6503-48FB-A54D-122A4EBB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90E66-D6BE-4653-8606-714B759B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20E96-9E35-42AC-AEC3-B5638B02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F0AC0-94AC-46C7-8EDF-E670413D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75C4-B7DA-435A-AF86-EBE39314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E2B316-226C-45DE-8A92-3DB1827C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7DD-FE48-418B-86C3-3B3D016B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EE74-A431-4121-892A-A77A8AFA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66706-C74A-4E5A-ACF3-B9163399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3F5AC-65C2-4683-A822-12DAF0C5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5284A-00C6-4DEF-9516-380E76CF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4A21-72F9-40BB-AF36-CC80D4E0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88E3-11AF-4B51-B5E9-625410C6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B4B1B-82DC-4505-AA80-93954D7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38DAE-379F-464A-85AF-551F4715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B4E1B-60A2-4126-A540-4CA706D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40AEE-F428-4AF5-8BC1-FD83BFC0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8EAD-151D-46C7-872D-B704DB79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A106-FA91-4958-B3C7-91F81647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9363A-9128-4388-BE15-152292CA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1DAA-EE07-42BD-B049-65D45A9C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B1F10-E792-4DFB-B3AD-715A3CD8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18A7C-84A5-428C-A812-891E104B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52A0-5F2D-4F6C-8E62-94C05B13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2B871-00CD-4BCF-8448-EFF634A6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A077B-CCD6-495B-A898-6798888E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61F32-4421-49D5-A1FB-B17E3F2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32942-6F1B-4523-AED8-6D419C0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ECA-81C9-490B-A469-32E9D9B0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08B1-65A1-4BB2-A3D0-41C85815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9F1EA-B999-45F4-9879-9F57136E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9AE79-3C9E-42E6-93C1-A45C92EE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5EC05-E87E-4FC3-95CB-826F1E0A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2B2FE-5553-4C6C-9B57-A6758ADF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17CAA-0B37-455E-BDCE-22541708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8C95-FB45-41F1-B4CB-45798D57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14D45-FE06-43EA-B284-7E5D6267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380880" y="355680"/>
            <a:ext cx="838224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B757C-A466-4BA5-AFE2-3CC2A6B9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49DAE-75BD-4D38-BE6C-79BAE4C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88F-36DD-4ECA-B4C0-0C0A246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77448-467D-4381-BF5A-C756ADF6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5C4A-D20F-4454-B80F-A746F8A7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D5C22-7014-4C61-83B0-1B1FF339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89000" y="402084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3EF7-2D0F-4B18-BDB3-F27DB99D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2344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66000" y="171900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38088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2344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66000" y="4020840"/>
            <a:ext cx="27068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F9611-618F-45CC-9AB3-D808A06A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9000" y="1719000"/>
            <a:ext cx="410256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4020840"/>
            <a:ext cx="84074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FDD4-4A32-4B7D-AC84-C7EAB1C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152280" y="1635120"/>
            <a:ext cx="8831520" cy="504504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152280" y="152280"/>
            <a:ext cx="8813880" cy="134640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6F68-775F-44D2-9F60-CECC115F73F3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9" descr="HHD12_bnr.jpg"/>
          <p:cNvPicPr/>
          <p:nvPr/>
        </p:nvPicPr>
        <p:blipFill>
          <a:blip r:embed="rId2"/>
          <a:stretch/>
        </p:blipFill>
        <p:spPr>
          <a:xfrm>
            <a:off x="0" y="0"/>
            <a:ext cx="75596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A86A-5475-43A2-8375-9371208F2366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7010280" y="152280"/>
            <a:ext cx="198144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52280" y="154080"/>
            <a:ext cx="6705720" cy="655308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9032-A245-4ADE-B388-3BEA4C59978B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9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0"/>
          <p:cNvSpPr/>
          <p:nvPr/>
        </p:nvSpPr>
        <p:spPr>
          <a:xfrm>
            <a:off x="152280" y="150840"/>
            <a:ext cx="88315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FA08-5020-4DBD-8F9A-6FEB48F5B99A}" type="slidenum">
              <a:rPr b="0" lang="en-AU" sz="1100" spc="-1" strike="noStrike">
                <a:solidFill>
                  <a:srgbClr val="53494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d1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solidFill>
            <a:srgbClr val="c66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152280" y="152280"/>
            <a:ext cx="670572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73F5-8305-48C2-AE32-52ED6C368874}" type="slidenum">
              <a:rPr b="0" lang="en-A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49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7010280" y="150840"/>
            <a:ext cx="1981440" cy="65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d1b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ccd1b9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d1b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C178-268E-4EBD-B18C-D233DA475322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0"/>
          <p:cNvSpPr/>
          <p:nvPr/>
        </p:nvSpPr>
        <p:spPr>
          <a:xfrm>
            <a:off x="152280" y="147600"/>
            <a:ext cx="6705720" cy="6556320"/>
          </a:xfrm>
          <a:prstGeom prst="rect">
            <a:avLst/>
          </a:prstGeom>
          <a:solidFill>
            <a:srgbClr val="ccd1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7010280" y="147600"/>
            <a:ext cx="1955880" cy="6556320"/>
          </a:xfrm>
          <a:prstGeom prst="rect">
            <a:avLst/>
          </a:prstGeom>
          <a:solidFill>
            <a:srgbClr val="5349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28600">
              <a:spcBef>
                <a:spcPts val="4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99"/>
              </a:spcBef>
              <a:buClr>
                <a:srgbClr val="928b7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3" marL="1096920" indent="-182520">
              <a:spcBef>
                <a:spcPts val="499"/>
              </a:spcBef>
              <a:buClr>
                <a:srgbClr val="8770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4" marL="1279440" indent="-182520">
              <a:spcBef>
                <a:spcPts val="499"/>
              </a:spcBef>
              <a:buClr>
                <a:srgbClr val="6f77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5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6" marL="1279440" indent="-18252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371160" y="635652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3494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3494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47760" y="6356520"/>
            <a:ext cx="33526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8233920" y="6354360"/>
            <a:ext cx="582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100" spc="-1" strike="noStrike">
                <a:solidFill>
                  <a:srgbClr val="ccd1b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46B0-24F0-4E64-9893-D9B0AE018C60}" type="slidenum">
              <a:rPr b="0" lang="en-AU" sz="1100" spc="-1" strike="noStrike">
                <a:solidFill>
                  <a:srgbClr val="ccd1b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7010280" y="2052720"/>
            <a:ext cx="198144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ffffff"/>
                </a:solidFill>
                <a:latin typeface="Franklin Gothic Medium"/>
              </a:rPr>
              <a:t>Chapter 2: Understanding Youth</a:t>
            </a:r>
            <a:endParaRPr b="0" lang="en-US" sz="19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457200" y="2052720"/>
            <a:ext cx="63244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AREA OF STUDY 2</a:t>
            </a:r>
            <a:br>
              <a:rPr sz="3800"/>
            </a:br>
            <a:r>
              <a:rPr b="1" lang="en-US" sz="3800" spc="-1" strike="noStrike">
                <a:solidFill>
                  <a:srgbClr val="ffffff"/>
                </a:solidFill>
                <a:latin typeface="Franklin Gothic Medium"/>
              </a:rPr>
              <a:t>YOUTH HEALTH AND DEVELOPMENT</a:t>
            </a:r>
            <a:endParaRPr b="0" lang="en-US" sz="3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0880" y="1719360"/>
            <a:ext cx="840744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riod of the human lifespan between the ages of 12 and 18 year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transition between childhood and adulthood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ther words for youth include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teenager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lnSpc>
                <a:spcPct val="90000"/>
              </a:lnSpc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adolescents 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Early Youth: age 12-14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Middle Youth: age 15-16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534949"/>
                </a:solidFill>
                <a:latin typeface="Franklin Gothic Medium"/>
              </a:rPr>
              <a:t>Late Youth: age 17-18 year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4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DEFINING YOUTH</a:t>
            </a:r>
            <a:br>
              <a:rPr sz="3200"/>
            </a:br>
            <a:r>
              <a:rPr b="1" lang="en-US" sz="1800" spc="-1" strike="noStrike">
                <a:solidFill>
                  <a:srgbClr val="ffffff"/>
                </a:solidFill>
                <a:latin typeface="Franklin Gothic Medium"/>
              </a:rPr>
              <a:t>PAGE 30-33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844960" cy="516564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3"/>
          <p:cNvSpPr/>
          <p:nvPr/>
        </p:nvSpPr>
        <p:spPr>
          <a:xfrm>
            <a:off x="324000" y="7970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ffffff"/>
                </a:solidFill>
                <a:latin typeface="Arial"/>
              </a:rPr>
              <a:t>What experiences have you had so far that signify you are experiencing a transition phase from childhood to adulthoo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Franklin Gothic Medium"/>
              </a:rPr>
              <a:t>Many changes occur during youth</a:t>
            </a:r>
            <a:r>
              <a:rPr b="0" lang="en-AU" sz="3200" spc="-1" strike="noStrike">
                <a:solidFill>
                  <a:srgbClr val="00b0f0"/>
                </a:solidFill>
                <a:latin typeface="Franklin Gothic Medium"/>
              </a:rPr>
              <a:t>, can you identify some of these changes?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99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4949"/>
                </a:solidFill>
                <a:latin typeface="Franklin Gothic Medium"/>
              </a:rPr>
              <a:t>The changes that occur as part of youth development can be grouped as:</a:t>
            </a:r>
            <a:endParaRPr b="0" lang="en-US" sz="32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hysic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Soci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700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Intellectual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YOUTH DEVELOPMEN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0880" y="1989000"/>
            <a:ext cx="8407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601"/>
              </a:spcBef>
              <a:buClr>
                <a:srgbClr val="c66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Physical development during youth is rapid, including: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size of bones and muscles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Change in height and weight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499"/>
              </a:spcBef>
              <a:buClr>
                <a:srgbClr val="bf97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949"/>
                </a:solidFill>
                <a:latin typeface="Franklin Gothic Medium"/>
              </a:rPr>
              <a:t>Sexual development 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Primary sexual development (sex organ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2" marL="822240" indent="-182520">
              <a:spcBef>
                <a:spcPts val="451"/>
              </a:spcBef>
              <a:buClr>
                <a:srgbClr val="928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4949"/>
                </a:solidFill>
                <a:latin typeface="Franklin Gothic Medium"/>
              </a:rPr>
              <a:t>Secondary sexual development (other changes – e.g. hair, development of breasts and widening of hips in females, deepening of voice and broadening of shoulders in males)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2 Questions 1-6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Franklin Gothic Medium"/>
              </a:rPr>
              <a:t>Activity 2.3 Questions 1-5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00000"/>
                </a:solidFill>
                <a:uFillTx/>
                <a:latin typeface="Franklin Gothic Medium"/>
              </a:rPr>
              <a:t>Homework</a:t>
            </a: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: 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00000"/>
                </a:solidFill>
                <a:latin typeface="Franklin Gothic Medium"/>
              </a:rPr>
              <a:t>Read page 38-43 and answer Activity 2.4 (pg 43-44) Questions 1-7</a:t>
            </a:r>
            <a:endParaRPr b="0" lang="en-US" sz="1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HARACTERISTICS OF PHYSICAL DEVELOPMENT</a:t>
            </a: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Franklin Gothic Medium"/>
              </a:rPr>
              <a:t>PAGE 34-43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An important part of youth development is forming social relationships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Peer-group relationships are critical as is establishing an identity and being accep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Self-esteem is a key characteristic of youth development, how might positive self esteem develop in youth? What about  negative self esteem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34949"/>
                </a:solidFill>
                <a:latin typeface="Franklin Gothic Medium"/>
              </a:rPr>
              <a:t>Activity 2.5 (pg 46) Questions 1-6</a:t>
            </a:r>
            <a:endParaRPr b="0" lang="en-US" sz="20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355680"/>
            <a:ext cx="838224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SOCI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Occurs as an individual develops the capacity to think in broader terms, to conceptualise complex issues and to see how things are connected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f0"/>
                </a:solidFill>
                <a:latin typeface="Franklin Gothic Medium"/>
              </a:rPr>
              <a:t>Youth intellectual development is not only represented by academic success, how else might it be represented?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43912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INTELLECTU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0880" y="1719000"/>
            <a:ext cx="840744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The youth stage of the lifespan is characterised by individuals increasingly understanding their emotions 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700"/>
              </a:spcBef>
              <a:buClr>
                <a:srgbClr val="c66951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4949"/>
                </a:solidFill>
                <a:latin typeface="Franklin Gothic Medium"/>
              </a:rPr>
              <a:t>Emotional development includes:</a:t>
            </a:r>
            <a:endParaRPr b="0" lang="en-US" sz="28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changing relationship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eeting basic need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Managing grief and lo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lvl="1" marL="547560" indent="-182520">
              <a:spcBef>
                <a:spcPts val="601"/>
              </a:spcBef>
              <a:buClr>
                <a:srgbClr val="bf97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949"/>
                </a:solidFill>
                <a:latin typeface="Franklin Gothic Medium"/>
              </a:rPr>
              <a:t>Coping with stress</a:t>
            </a: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  <a:p>
            <a:pPr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949"/>
              </a:solidFill>
              <a:latin typeface="Franklin Gothic Medium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367840" cy="78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Franklin Gothic Medium"/>
              </a:rPr>
              <a:t>CHARACTERISTICS OF EMOTIONAL DEVELOPMENT </a:t>
            </a:r>
            <a:endParaRPr b="0" lang="en-US" sz="29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2:29:01Z</dcterms:created>
  <dc:creator>charlesc1</dc:creator>
  <dc:description/>
  <dc:language>en-US</dc:language>
  <cp:lastModifiedBy>08470047</cp:lastModifiedBy>
  <dcterms:modified xsi:type="dcterms:W3CDTF">2011-02-28T04:42:54Z</dcterms:modified>
  <cp:revision>38</cp:revision>
  <dc:subject/>
  <dc:title>Slide 1</dc:title>
</cp:coreProperties>
</file>